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8300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3CE5-F351-46C5-AC65-3BDC31838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83000" cy="3729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67A-C482-4544-B9CD-C4864A2E5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83000" cy="3729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FAD6-9085-46B4-83C4-C2B9DF651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83000" cy="3729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F87-B634-431A-83AE-8202F0BF6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83000" cy="3729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8B8-FA1B-4E66-9723-3DAAB151F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83000" cy="3729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934-6E7F-424C-B5AE-6964C3BD1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CBF-84DB-49EE-9037-A259327B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C84-0E4C-42CC-B51C-990BB31E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EA6-5F7C-4DB7-A414-123D3C93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8C8-7216-47EF-9F27-E9A1CBBF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907-1894-4B01-8E7E-D1B38A1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4F5-3F65-4D9A-AAD0-46B45F6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61E-2E41-4040-B763-17195833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DF1-E13E-4702-BCA8-F93EEFC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F39-24E7-442B-9192-14DDC87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691-F68E-4F4F-823C-3D8AB77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7EE-434C-46A5-9CA8-53FA204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0CA-D426-4C52-ACB2-65EA192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EC92-B094-4ED7-AA12-FF3E0F074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676520" y="348156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APPENDIX 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689120" y="4856040"/>
            <a:ext cx="3352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AMPLE CALCUL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763120" y="967752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838080" y="464832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838080" y="548496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1676520" y="348156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APPENDIX B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838080" y="478008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UMMARY OF RESULTS FROM GRILLAGE ANALY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8763120" y="967752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4"/>
          <p:cNvSpPr/>
          <p:nvPr/>
        </p:nvSpPr>
        <p:spPr>
          <a:xfrm>
            <a:off x="838080" y="464832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838080" y="571500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1676520" y="348156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APPENDIX 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838080" y="4780080"/>
            <a:ext cx="50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LIST OF BRIDGES IN SABA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8"/>
          <p:cNvSpPr/>
          <p:nvPr/>
        </p:nvSpPr>
        <p:spPr>
          <a:xfrm>
            <a:off x="8763120" y="967752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838080" y="464832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5"/>
          <p:cNvSpPr/>
          <p:nvPr/>
        </p:nvSpPr>
        <p:spPr>
          <a:xfrm>
            <a:off x="838080" y="548496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1676520" y="348156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APPENDIX 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838080" y="4932360"/>
            <a:ext cx="50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LIST OF BRIDGES IN SARAW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763120" y="967752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14"/>
          <p:cNvSpPr/>
          <p:nvPr/>
        </p:nvSpPr>
        <p:spPr>
          <a:xfrm>
            <a:off x="838080" y="464832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15"/>
          <p:cNvSpPr/>
          <p:nvPr/>
        </p:nvSpPr>
        <p:spPr>
          <a:xfrm>
            <a:off x="838080" y="5638680"/>
            <a:ext cx="5181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1676520" y="348156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APPENDIX 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838080" y="4932360"/>
            <a:ext cx="50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LIST OF BRIDGES IN LABU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8"/>
          <p:cNvSpPr/>
          <p:nvPr/>
        </p:nvSpPr>
        <p:spPr>
          <a:xfrm>
            <a:off x="8763120" y="967752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14"/>
          <p:cNvSpPr/>
          <p:nvPr/>
        </p:nvSpPr>
        <p:spPr>
          <a:xfrm>
            <a:off x="838080" y="4648320"/>
            <a:ext cx="518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15"/>
          <p:cNvSpPr/>
          <p:nvPr/>
        </p:nvSpPr>
        <p:spPr>
          <a:xfrm>
            <a:off x="838080" y="5638680"/>
            <a:ext cx="5181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4:37:13Z</dcterms:created>
  <dc:creator>User</dc:creator>
  <dc:description/>
  <dc:language>en-US</dc:language>
  <cp:lastModifiedBy>Valued Acer Customer</cp:lastModifiedBy>
  <dcterms:modified xsi:type="dcterms:W3CDTF">2011-03-29T03:17:16Z</dcterms:modified>
  <cp:revision>45</cp:revision>
  <dc:subject/>
  <dc:title>Slide 1</dc:title>
</cp:coreProperties>
</file>